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336-8937-4B1A-A026-6C56A4D1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165-DCDF-4718-B4B9-8D9D4E78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14E-8556-43A2-BFFD-EEC02D67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552-13E0-462B-A854-2EC6D413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EB6-9889-4777-A52F-26B7B33D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6AC-A990-4995-AC4C-0D891186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20B-4940-4571-932C-70695F0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54C-7F6B-4A96-94E5-3AA44B19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5C1-EB23-4D93-9F78-DBCBD807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013-2A6B-48FD-9439-D42DF93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14F-1B7F-49A1-A332-2994E85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40C-8293-4801-B4AF-7564C63E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AD8B4-8FEF-46FF-85E8-D6B9CA8CC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BA6D6-C614-4F3D-A15E-0D4107E0F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e6fdfa"/>
              </a:gs>
              <a:gs pos="100000">
                <a:srgbClr val="a2f7ec"/>
              </a:gs>
            </a:gsLst>
            <a:lin ang="5400000"/>
          </a:gradFill>
          <a:ln w="9360">
            <a:solidFill>
              <a:srgbClr val="31ab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sourcing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Fa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o Musk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Outsourc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gradFill rotWithShape="0">
            <a:gsLst>
              <a:gs pos="0">
                <a:srgbClr val="effde6"/>
              </a:gs>
              <a:gs pos="100000">
                <a:srgbClr val="c6f7a2"/>
              </a:gs>
            </a:gsLst>
            <a:lin ang="5400000"/>
          </a:gradFill>
          <a:ln w="9360">
            <a:solidFill>
              <a:srgbClr val="76ab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What do you know about outsourc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Read: Business Week article: Commentary: Outsourcing Jobs: Is it Bad? 3)Create a T-chart-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Discussion: The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rpose: What are the positives and negatives of Outsourc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sential Questions:1) What advantages might a business have from outsourcing? What are some disadvantages?a.If you owned a business, how might you resolve the question of outsourcing or not? How would you respond to your critic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iness Week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pdf- save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rguments for and against outrsour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18:34Z</dcterms:created>
  <dc:creator>AWL Loaner</dc:creator>
  <dc:description/>
  <dc:language>en-US</dc:language>
  <cp:lastModifiedBy>AWL Loaner</cp:lastModifiedBy>
  <dcterms:modified xsi:type="dcterms:W3CDTF">2011-04-21T12:25:00Z</dcterms:modified>
  <cp:revision>1</cp:revision>
  <dc:subject/>
  <dc:title>Outsourcing: Pros and Cons</dc:title>
</cp:coreProperties>
</file>